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705FE-ACDC-4BAE-95B5-382E4452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9CEC5-ACA0-4C8B-A0E3-99CCDCA3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EF8A-E952-41CC-94C2-49057A17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DDCE-52C3-4C5A-B8EA-541A9990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B51C-D903-4179-BAF2-C1932300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0C03-4FE8-4196-A58D-95CECE49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60AE-EFE6-41A6-BED9-4EC532DF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2F29-F32C-4340-9717-825F1B6D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EF10-ACFE-4F47-BC70-288307CB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02DD-FB35-4E4D-A7C9-3FA2EAE5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CC45-416E-4AC3-94EB-72B332BC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33E9-CF13-41BE-8E7E-26994692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7D5D-B061-4684-A7D0-A5FE3676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5F8D-DC3D-48E9-ACB0-15CC4CC6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24A9-E85F-484A-BDA5-98890062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D40C-CC58-41D4-9EF0-99B129E4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234D-7E21-4393-9EA5-260A4198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FD078-3DE8-4A8E-B9D3-D303D553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24EC-39B0-4DDB-823C-F232FAFC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C6D2D-71C3-479B-8F63-2066FB5A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5E66A-A04E-4524-B317-4B294AEE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B6088-4F19-4CB2-B3AE-5C238A25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672D-E247-4912-8BE3-53975B3D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19EE0-E72B-497B-984D-CF0D2AE1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FE01-0C7E-4C69-9B92-B72D0030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4917F-1A39-4B93-8A6B-D6C0CE25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E54AE-6113-4BBD-8BB6-9867C7CC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C197-9D13-49D5-8795-1B3DD30F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65F2-050A-47F2-9AAF-C12D2F78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EAE2-021A-4D2F-A03E-DA574A20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AA9AA-8CA7-4217-B2E5-C14D172C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BA9C-5181-4511-A023-3B16F383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1F76-2DAA-4DCC-A32F-82BF9CBA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24E1D-D83E-408F-A299-52106ACE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4958-E67D-4703-B59C-49C3741B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1D42-9D68-4AC7-80A2-48C9B93D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7FFE-25EB-4ADD-84CC-513E5843FEE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FC89-F1F0-4B6B-BA73-3430C44FBE9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6F82-7ACB-4347-849D-B444728D9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huvrdub.ru/towns_herours.html" TargetMode="External"/><Relationship Id="rId2" Type="http://schemas.openxmlformats.org/officeDocument/2006/relationships/hyperlink" Target="http://www.publiclibrary.ru/readers/read/childread-obo-vsem-na-svete-o-voine-rasskazhet-kniga-goroda-geroi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274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еликая       Отечественная Война     глазами сов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удентки 4 курса             филологического факультета  КГ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ызьюровой Анастасии Андре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5300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5445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4076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10  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Основополагающий вопрос нашего проекта: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27664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2349360"/>
            <a:ext cx="28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2133720"/>
            <a:ext cx="532944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Почем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озникаю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ойны 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Проблемные вопросы 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ы подвиги, победы и поражения ВОВ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города-герои отличились своими подвигами в ВОВ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ы последствия ВОВ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о отношение современной молодёжи к ВОВ и её участникам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Дидактические цели проекта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ться с событиями 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о трагических последствиях 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ценить великий вклад участников 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Представление результатов исследовани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кл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товыста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2371680" cy="1726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2305080" cy="1726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140360" y="3645000"/>
            <a:ext cx="40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Распределение по группа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765000"/>
          <a:ext cx="8229600" cy="6004080"/>
        </p:xfrm>
        <a:graphic>
          <a:graphicData uri="http://schemas.openxmlformats.org/drawingml/2006/table">
            <a:tbl>
              <a:tblPr/>
              <a:tblGrid>
                <a:gridCol w="1738440"/>
                <a:gridCol w="3960720"/>
                <a:gridCol w="2530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уп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астники груп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вы подвиги , победы и поражения ВОВ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ие города-герои отличились своими подвигами в ВОВ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вы последствия ВОВ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во отношение молодёжи к ВОВ и ее участникам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Этапы проведения проекта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бор и формулирование тем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Поиск информ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Самостоятельная работа уча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Защита прое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Информационные ресурсы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 Истории для 10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www.chuvrdub.ru/towns_herours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http://www.publiclibrary.ru/readers/read/childread-obo-vsem-na-svete-o-voine-rasskazhet-kniga-goroda-geroi.ht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35:55Z</dcterms:created>
  <dc:creator>студент</dc:creator>
  <dc:description/>
  <dc:language>en-US</dc:language>
  <cp:lastModifiedBy>студент</cp:lastModifiedBy>
  <dcterms:modified xsi:type="dcterms:W3CDTF">2010-04-21T09:44:30Z</dcterms:modified>
  <cp:revision>16</cp:revision>
  <dc:subject/>
  <dc:title>Великая       Отечественная Война     глазами современности</dc:title>
</cp:coreProperties>
</file>